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73E-7F8E-4EA1-8D77-D022B0F0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466-B219-444B-9A91-3580F69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065-D5D7-40AE-A9AC-EFBB658E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CE8-8855-4821-9EFB-CE2CAFB7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CB1F-BBE7-4D84-ACE9-CE366DA0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A9A-DA99-4D65-AE36-DE440DAA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A0C6-70F7-4A1D-B23E-B637F6E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38E2-A528-4178-AE9E-D2404D0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EB6-9552-415E-BC14-658320B7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2185-A65A-44D4-AFE1-659D40B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0A90-C74C-4842-886B-D9600393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8CA-A79C-4228-8FA8-894E2CC7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4D92-8E89-42D4-B87F-7901853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2781-8B38-454D-A219-10943657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0EAA-12AE-47A8-A04F-B6B6B647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2309-16CB-4150-8436-513AC994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B915-D425-4CD4-8073-D429CE34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F4F-4AB9-46B8-AF92-0B468517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4C3-8A16-4CA2-854C-A44746F8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EC5-DAE9-4E87-904E-EA549FB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DDB-05EF-47E5-9F05-4BCF525C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06E-FB5A-47C8-AB51-4E80774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43D-CF21-4841-814D-38DDA3E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74D-34B6-4B47-ACF3-6689C6A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FAC-4824-4852-BBAE-0FED8AD825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1AD-99A6-4EB0-867F-D619EF0B02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iem.onet.pl/wiem/007708.html" TargetMode="External"/><Relationship Id="rId2" Type="http://schemas.openxmlformats.org/officeDocument/2006/relationships/hyperlink" Target="http://wiem.onet.pl/wiem/01129c.html" TargetMode="External"/><Relationship Id="rId3" Type="http://schemas.openxmlformats.org/officeDocument/2006/relationships/hyperlink" Target="http://wiem.onet.pl/wiem/009b20.html" TargetMode="External"/><Relationship Id="rId4" Type="http://schemas.openxmlformats.org/officeDocument/2006/relationships/hyperlink" Target="http://wiem.onet.pl/wiem/002088.html" TargetMode="External"/><Relationship Id="rId5" Type="http://schemas.openxmlformats.org/officeDocument/2006/relationships/hyperlink" Target="http://wiem.onet.pl/wiem/009b15.html" TargetMode="External"/><Relationship Id="rId6" Type="http://schemas.openxmlformats.org/officeDocument/2006/relationships/hyperlink" Target="http://wiem.onet.pl/wiem/0047b3.html" TargetMode="External"/><Relationship Id="rId7" Type="http://schemas.openxmlformats.org/officeDocument/2006/relationships/hyperlink" Target="http://wiem.onet.pl/wiem/002def.html" TargetMode="External"/><Relationship Id="rId8" Type="http://schemas.openxmlformats.org/officeDocument/2006/relationships/hyperlink" Target="http://wiem.onet.pl/wiem/007708.html" TargetMode="External"/><Relationship Id="rId9" Type="http://schemas.openxmlformats.org/officeDocument/2006/relationships/hyperlink" Target="http://wiem.onet.pl/wiem/01129c.html" TargetMode="External"/><Relationship Id="rId10" Type="http://schemas.openxmlformats.org/officeDocument/2006/relationships/hyperlink" Target="http://wiem.onet.pl/wiem/009b20.html" TargetMode="External"/><Relationship Id="rId11" Type="http://schemas.openxmlformats.org/officeDocument/2006/relationships/hyperlink" Target="http://wiem.onet.pl/wiem/002088.html" TargetMode="External"/><Relationship Id="rId12" Type="http://schemas.openxmlformats.org/officeDocument/2006/relationships/hyperlink" Target="http://wiem.onet.pl/wiem/009b15.html" TargetMode="External"/><Relationship Id="rId13" Type="http://schemas.openxmlformats.org/officeDocument/2006/relationships/hyperlink" Target="http://wiem.onet.pl/wiem/0047b3.html" TargetMode="External"/><Relationship Id="rId14" Type="http://schemas.openxmlformats.org/officeDocument/2006/relationships/hyperlink" Target="http://wiem.onet.pl/wiem/002def.html" TargetMode="External"/><Relationship Id="rId15" Type="http://schemas.openxmlformats.org/officeDocument/2006/relationships/hyperlink" Target="http://wiem.onet.pl/wiem/00732b.html" TargetMode="External"/><Relationship Id="rId16" Type="http://schemas.openxmlformats.org/officeDocument/2006/relationships/hyperlink" Target="http://wiem.onet.pl/wiem/00732b.html" TargetMode="External"/><Relationship Id="rId1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hotoworld.toya.net.pl/antarktyda/wieloryby/index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photoworld.toya.net.pl/antarktyda/ptaki-w/index.htm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iem.onet.pl/wiem/0106e2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em.onet.pl/wiem/010704.html" TargetMode="External"/><Relationship Id="rId2" Type="http://schemas.openxmlformats.org/officeDocument/2006/relationships/hyperlink" Target="http://wiem.onet.pl/wiem/003980.html" TargetMode="External"/><Relationship Id="rId3" Type="http://schemas.openxmlformats.org/officeDocument/2006/relationships/hyperlink" Target="http://wiem.onet.pl/wiem/0119a5.html" TargetMode="External"/><Relationship Id="rId4" Type="http://schemas.openxmlformats.org/officeDocument/2006/relationships/hyperlink" Target="http://wiem.onet.pl/wiem/0119a5.html" TargetMode="External"/><Relationship Id="rId5" Type="http://schemas.openxmlformats.org/officeDocument/2006/relationships/hyperlink" Target="http://wiem.onet.pl/wiem/001afc.html" TargetMode="External"/><Relationship Id="rId6" Type="http://schemas.openxmlformats.org/officeDocument/2006/relationships/hyperlink" Target="http://wiem.onet.pl/wiem/001afc.html" TargetMode="External"/><Relationship Id="rId7" Type="http://schemas.openxmlformats.org/officeDocument/2006/relationships/hyperlink" Target="http://wiem.onet.pl/wiem/00314c.html" TargetMode="External"/><Relationship Id="rId8" Type="http://schemas.openxmlformats.org/officeDocument/2006/relationships/hyperlink" Target="http://wiem.onet.pl/wiem/00314c.html" TargetMode="External"/><Relationship Id="rId9" Type="http://schemas.openxmlformats.org/officeDocument/2006/relationships/hyperlink" Target="http://wiem.onet.pl/wiem/00314c.html" TargetMode="External"/><Relationship Id="rId10" Type="http://schemas.openxmlformats.org/officeDocument/2006/relationships/hyperlink" Target="http://wiem.onet.pl/wiem/00affd.html" TargetMode="External"/><Relationship Id="rId11" Type="http://schemas.openxmlformats.org/officeDocument/2006/relationships/hyperlink" Target="http://wiem.onet.pl/wiem/005f66.html" TargetMode="External"/><Relationship Id="rId12" Type="http://schemas.openxmlformats.org/officeDocument/2006/relationships/hyperlink" Target="http://wiem.onet.pl/wiem/005f66.html" TargetMode="External"/><Relationship Id="rId13" Type="http://schemas.openxmlformats.org/officeDocument/2006/relationships/hyperlink" Target="http://wiem.onet.pl/wiem/00c080.html" TargetMode="External"/><Relationship Id="rId14" Type="http://schemas.openxmlformats.org/officeDocument/2006/relationships/hyperlink" Target="http://wiem.onet.pl/wiem/00c080.html" TargetMode="External"/><Relationship Id="rId15" Type="http://schemas.openxmlformats.org/officeDocument/2006/relationships/hyperlink" Target="http://wiem.onet.pl/wiem/002568.html" TargetMode="External"/><Relationship Id="rId16" Type="http://schemas.openxmlformats.org/officeDocument/2006/relationships/hyperlink" Target="http://wiem.onet.pl/wiem/002568.html" TargetMode="External"/><Relationship Id="rId17" Type="http://schemas.openxmlformats.org/officeDocument/2006/relationships/hyperlink" Target="http://wiem.onet.pl/wiem/002568.html" TargetMode="External"/><Relationship Id="rId18" Type="http://schemas.openxmlformats.org/officeDocument/2006/relationships/hyperlink" Target="http://wiem.onet.pl/wiem/00f0dd.html" TargetMode="External"/><Relationship Id="rId19" Type="http://schemas.openxmlformats.org/officeDocument/2006/relationships/hyperlink" Target="http://wiem.onet.pl/wiem/00f0dd.html" TargetMode="External"/><Relationship Id="rId20" Type="http://schemas.openxmlformats.org/officeDocument/2006/relationships/hyperlink" Target="http://wiem.onet.pl/wiem/000a4f.html" TargetMode="External"/><Relationship Id="rId21" Type="http://schemas.openxmlformats.org/officeDocument/2006/relationships/hyperlink" Target="http://wiem.onet.pl/wiem/000a4f.html" TargetMode="External"/><Relationship Id="rId22" Type="http://schemas.openxmlformats.org/officeDocument/2006/relationships/hyperlink" Target="http://wiem.onet.pl/wiem/000a4f.html" TargetMode="External"/><Relationship Id="rId23" Type="http://schemas.openxmlformats.org/officeDocument/2006/relationships/hyperlink" Target="http://wiem.onet.pl/wiem/012a61.html" TargetMode="External"/><Relationship Id="rId24" Type="http://schemas.openxmlformats.org/officeDocument/2006/relationships/hyperlink" Target="http://wiem.onet.pl/wiem/012a61.html" TargetMode="External"/><Relationship Id="rId25" Type="http://schemas.openxmlformats.org/officeDocument/2006/relationships/hyperlink" Target="http://wiem.onet.pl/wiem/012a61.html" TargetMode="External"/><Relationship Id="rId26" Type="http://schemas.openxmlformats.org/officeDocument/2006/relationships/hyperlink" Target="http://wiem.onet.pl/wiem/007c49.html" TargetMode="External"/><Relationship Id="rId27" Type="http://schemas.openxmlformats.org/officeDocument/2006/relationships/hyperlink" Target="http://wiem.onet.pl/wiem/004d23.html" TargetMode="External"/><Relationship Id="rId28" Type="http://schemas.openxmlformats.org/officeDocument/2006/relationships/hyperlink" Target="http://wiem.onet.pl/wiem/00e3bb.html" TargetMode="External"/><Relationship Id="rId29" Type="http://schemas.openxmlformats.org/officeDocument/2006/relationships/hyperlink" Target="http://wiem.onet.pl/wiem/00e3bb.html" TargetMode="External"/><Relationship Id="rId30" Type="http://schemas.openxmlformats.org/officeDocument/2006/relationships/hyperlink" Target="http://wiem.onet.pl/wiem/002009.html" TargetMode="External"/><Relationship Id="rId31" Type="http://schemas.openxmlformats.org/officeDocument/2006/relationships/hyperlink" Target="http://wiem.onet.pl/wiem/002009.html" TargetMode="External"/><Relationship Id="rId32" Type="http://schemas.openxmlformats.org/officeDocument/2006/relationships/hyperlink" Target="http://wiem.onet.pl/wiem/002009.html" TargetMode="External"/><Relationship Id="rId3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iem.onet.pl/wiem/00fb4c.html" TargetMode="External"/><Relationship Id="rId2" Type="http://schemas.openxmlformats.org/officeDocument/2006/relationships/hyperlink" Target="http://wiem.onet.pl/wiem/003980.html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hotoworld.toya.net.pl/antarktyda/gory/11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iem.onet.pl/wiem/004d23.html#s00" TargetMode="External"/><Relationship Id="rId2" Type="http://schemas.openxmlformats.org/officeDocument/2006/relationships/hyperlink" Target="http://wiem.onet.pl/wiem/004d23.html#s01" TargetMode="External"/><Relationship Id="rId3" Type="http://schemas.openxmlformats.org/officeDocument/2006/relationships/hyperlink" Target="http://wiem.onet.pl/wiem/004d23.html#s02" TargetMode="External"/><Relationship Id="rId4" Type="http://schemas.openxmlformats.org/officeDocument/2006/relationships/hyperlink" Target="http://wiem.onet.pl/wiem/004d23.html#s03" TargetMode="External"/><Relationship Id="rId5" Type="http://schemas.openxmlformats.org/officeDocument/2006/relationships/hyperlink" Target="http://wiem.onet.pl/wiem/004d23.html#s04" TargetMode="External"/><Relationship Id="rId6" Type="http://schemas.openxmlformats.org/officeDocument/2006/relationships/hyperlink" Target="http://wiem.onet.pl/wiem/004d23.html#s05" TargetMode="External"/><Relationship Id="rId7" Type="http://schemas.openxmlformats.org/officeDocument/2006/relationships/hyperlink" Target="http://wiem.onet.pl/wiem/004d23.html#s06" TargetMode="External"/><Relationship Id="rId8" Type="http://schemas.openxmlformats.org/officeDocument/2006/relationships/hyperlink" Target="http://wiem.onet.pl/wiem/004d23.html#s07" TargetMode="External"/><Relationship Id="rId9" Type="http://schemas.openxmlformats.org/officeDocument/2006/relationships/hyperlink" Target="http://wiem.onet.pl/wiem/004d23.html#s08" TargetMode="External"/><Relationship Id="rId10" Type="http://schemas.openxmlformats.org/officeDocument/2006/relationships/hyperlink" Target="http://wiem.onet.pl/wiem/004d23.html#s09" TargetMode="External"/><Relationship Id="rId11" Type="http://schemas.openxmlformats.org/officeDocument/2006/relationships/hyperlink" Target="http://wiem.onet.pl/wiem/004d23.html#s10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world.toya.net.pl/antarktyda/gory/09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iem.onet.pl/wiem/0037a8.html" TargetMode="External"/><Relationship Id="rId2" Type="http://schemas.openxmlformats.org/officeDocument/2006/relationships/hyperlink" Target="http://wiem.onet.pl/wiem/004638.html" TargetMode="External"/><Relationship Id="rId3" Type="http://schemas.openxmlformats.org/officeDocument/2006/relationships/hyperlink" Target="http://wiem.onet.pl/wiem/011bee.html" TargetMode="External"/><Relationship Id="rId4" Type="http://schemas.openxmlformats.org/officeDocument/2006/relationships/hyperlink" Target="http://wiem.onet.pl/wiem/007482.html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KTYKA I ANTARKTYDA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RENA FIJAŁKOWS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Faun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Należąca do krainy antarktycznej, występuje wyłącznie na wybrzeżach morskich. Z ssaków żyją tu 4 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endemiczne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gatunki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fok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(m.in. lampart morski), z ptaków -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pingwin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rybitw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albatros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i mewy. W wodach Antarktydy występują liczne bezkręgowce (zwłaszcza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kryl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) i ryby (m.in.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białokrwiste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Kryl – bioluminescencja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Faun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Należąca do krainy antarktycznej, występuje wyłącznie na wybrzeżach morskich. Z ssaków żyją tu 4 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endemiczne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gatunki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fok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(m.in. lampart morski), z ptaków -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pingwin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rybitw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albatrosy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i mewy. W wodach Antarktydy występują liczne bezkręgowce (zwłaszcza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kryl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) i ryby (m.in. </a:t>
            </a: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białokrwiste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Kryl – bioluminescencj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 Pingwiny cesars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 Pingwiny cesars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3960720" cy="29242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elory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taki wybrzeż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997360"/>
            <a:ext cx="45370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87640" y="277920"/>
            <a:ext cx="410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ŚWISTA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0" y="3800520"/>
            <a:ext cx="4572000" cy="305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4446720"/>
            <a:ext cx="1411452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-8748720" y="3933720"/>
            <a:ext cx="13536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552840" cy="3429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14720" cy="5948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26560" y="-2548440"/>
            <a:ext cx="280836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1197000"/>
            <a:ext cx="35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1413000"/>
            <a:ext cx="352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NGW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Albatrosy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i="1" lang="pl-PL" sz="2400" spc="-1" strike="noStrike">
                <a:solidFill>
                  <a:srgbClr val="ffffff"/>
                </a:solidFill>
                <a:latin typeface="Verdana"/>
              </a:rPr>
              <a:t>Diomedeida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), rodzina ptaków oceanicznych z rzędu </a:t>
            </a:r>
            <a:r>
              <a:rPr b="0" lang="pl-PL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rurkonosych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, obejmująca 14 gatunków. Albatrosy charakteryzują się bardzo długimi, wąskimi skrzydłami, o rozpiętości od 178 do 350 cm; tułów krótki, dziób spłaszczony, zakończony hakowato. Ubarwienie białe, biało-brązowe, szare lub czarne. Latają niezwykle wytrwale, unosząc się lotem szybowcowym wykorzystują prądy powietrzne powstające nad falami, dobrze pływają i nurkują na niewielkie głębokości. Żywią się zwierzętami morskim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dania i wyprawy naukowe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Verdana"/>
              </a:rPr>
              <a:t>Polarnictwo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badania terenów położonych w pobliżu obu biegunów, prowadzone początkowo z powodów politycznych (poszukiwanie nowych ziem pod osadnictwo) i handlowych (poszukiwania korzystniejszych morskich dróg handlowych), a potem - naukowy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Pierwszymi badaczami polarnymi byli norwescy uchodźcy, którzy w VIII w. osiedlili się na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Islandii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i w X w. przybyli na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Grenlandię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szukając nowych terenów osadniczy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Kolejny etap wyznaczyły wyprawy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Barentsa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w XVI w. oraz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H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udsona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i 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W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Baffina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w XVII w., które miały na celu znalezienie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północno-zachodniego przejścia morskiego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. W XIX w. badania naukowe prowadzili tam: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N.A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Nordenskiöld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3"/>
              </a:rPr>
              <a:t>H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4"/>
              </a:rPr>
              <a:t>Arctowski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i 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5"/>
              </a:rPr>
              <a:t>F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6"/>
              </a:rPr>
              <a:t>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7"/>
              </a:rPr>
              <a:t>Nansen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 XX w. zdobyty został przez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8"/>
              </a:rPr>
              <a:t>R.E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19"/>
              </a:rPr>
              <a:t>Peary‘ego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biegun północny (1909), a 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0"/>
              </a:rPr>
              <a:t>R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1"/>
              </a:rPr>
              <a:t>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2"/>
              </a:rPr>
              <a:t>Amundsen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i 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3"/>
              </a:rPr>
              <a:t>R.F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4"/>
              </a:rPr>
              <a:t>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5"/>
              </a:rPr>
              <a:t>Scott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 jako pierwsi dotarli do bieguna południowego (1911 i 1912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Z początkiem XX w. do badań wprowadzono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6"/>
              </a:rPr>
              <a:t>lodołamacze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samoloty i okręty podwodne. Wiele badań zrealizowano w ramach pierwszego (1882-1883) i drugiego (1932-1933) Międzynarodowego Roku Polarnego oraz trzeciego Międzynarodowego Roku Geofizycznego (1957-1958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Obecnie większość badań koncentruje się na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7"/>
              </a:rPr>
              <a:t>Antarktydzie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gdzie dzięki międzynarodowym umowom (tzw. układ antarktyczny) powstały liczne stacje badawcze (m.in. polska stacja im. H. Arctowskiego w Zatoce Admiralicji, amerykańska McMurdo na Wyspie Rossa, rosyjska Mirnyj na Ziemi Królowej Mary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śród Polaków na uwagę zasługują polarne badania: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8"/>
              </a:rPr>
              <a:t>S.Z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29"/>
              </a:rPr>
              <a:t>Różyckiego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, S. Siedleckiego, A. Jahna i 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30"/>
              </a:rPr>
              <a:t>A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31"/>
              </a:rPr>
              <a:t>. </a:t>
            </a:r>
            <a:r>
              <a:rPr b="0" lang="pl-PL" sz="1200" spc="-1" strike="noStrike" u="sng">
                <a:solidFill>
                  <a:srgbClr val="ffffcc"/>
                </a:solidFill>
                <a:uFillTx/>
                <a:latin typeface="Verdana"/>
                <a:hlinkClick r:id="rId32"/>
              </a:rPr>
              <a:t>Kosiby</a:t>
            </a: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.b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POLSKA BAZA NAUKOWA NA ANTARKTYDZIE                       im.Henryka Arctowskie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126120" cy="595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amiński Marek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(1964-), polski podróżnik. W 1995 jako pierwszy człowiek dotarł pieszo w ciągu jednego roku na oba bieguny - północny (23 V 1995), południowy (27 XII 1995). Przygotowując się do tych wypraw przeszedł na nartach 400 km po 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pitsberge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(1990) i 600 km po lodowcach </a:t>
            </a:r>
            <a:r>
              <a:rPr b="0" lang="pl-PL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Grenlandii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(1993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95280" y="1631880"/>
            <a:ext cx="8424720" cy="4627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ORA  POLAR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746280"/>
            <a:ext cx="9144000" cy="57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Sytuacja praw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W 1959 przedstawiciele 12 państw uczestniczących w praca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Międzynarodowego Roku Geofizycznego (1957-1958) zorganizowa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w Waszyngtonie konferencję, zakończoną podpisaniem układu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w którym zadeklarowano wykorzystanie Antarktyki wyłącznie 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celów pokojowych, ogłoszono ją strefą neutralną i zdemilitaryzowaną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zakazano prób z jakimkolwiek rodzajem broni. Zagwarantowan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swobodę badań naukowych i współpracę międzynarodową w te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dziedzinie. W celu realizacji zasad traktatu postanowiono organizowa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konsultacje, do których 1977 została dopuszczona także Polska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1980 przyjęto konwencję o zachowaniu żywych zasobów morskic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Verdana"/>
              </a:rPr>
              <a:t>Antarktyki, 1980 konwencję o jej zasobach mineralnych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Verdana"/>
              </a:rPr>
              <a:t>postanawiając nie eksploatować ich przez co najmniej 50 l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PA   ANTARKTYD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ZŁOWIEK NA ANTARKTYDZI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103640" cy="3155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3876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ACHÓD      SŁOŃ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256360" cy="3503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KTYK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89280"/>
            <a:ext cx="6985080" cy="496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Żegnaj    Arktyk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789840"/>
            <a:ext cx="8137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nformacje ogóln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arunki naturaln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Budowa geologiczn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Rzeźb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Klima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Roślinność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Faun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Bogactwa naturaln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Ludność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Sytuacja prawna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Historia odkryć i podróży geograficznyc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2"/>
          <a:stretch/>
        </p:blipFill>
        <p:spPr>
          <a:xfrm>
            <a:off x="612720" y="1644480"/>
            <a:ext cx="9720" cy="19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908000" y="0"/>
            <a:ext cx="55454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IS TREŚ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48836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00360" y="189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Opis: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 Antarktyda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549360"/>
            <a:ext cx="5924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mputerowo sporządzona mapa na podstawie pomiarów radarowych dokonanych przez kanadyjskiego satelitę RADARSAT. </a:t>
            </a: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Autor: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 NAS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ÓRY LO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3600360" cy="3889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374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Kli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ntarktyda jest najsurowszy na całej kuli ziemskiej - polarny, bardzo suchy. Wiąże się to - oprócz szerokości geograficznej- z występowaniem nad kontynentem stałego ośrodka wysokiego ciśnienia. Średnia roczna temperatura wynosi od -10°C do -25°C (przeciętna temperatura w zimie ok. -60 do -70°C oraz -30 do -50°C w lecie). Na Antarktydzie odnotowano najniższą temperaturę na kuli ziemskiej, wynoszącą -89,2°C. Kontynent cechuje się występowaniem stałych i silnych wiatrów, a także niskich opadów (do 600 mm rocznie). Na Antarktydzie nie występuje stała, powierzchniowa sieć wod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Roślinnoś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Roślinność jest bardzo uboga, reprezentowana gł. przez mchy, porosty, grzyby oraz kilka gatunków roślin kwiatowych (m.in. trawa śmiałek antarktyczny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RAJOBRAZY ARKYY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816360" cy="3673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 Rybitwa, odgłos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Rybitwy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(Sterninae), podrodzina ptaków wodnych z rodziny mewowatych. Charakteryzują się smukłą sylwetką, długimi i ostro zakończonymi skrzydłami oraz rozwidlonym ogonem i krótkimi nogami. Palce spięte błoną pławną. Upierzenie białe, szare, brązowe lub czarne. Brak dymorfizmu płciowego w ubarwieni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ą </a:t>
            </a:r>
            <a:r>
              <a:rPr b="0" lang="pl-PL" sz="24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ptakam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wód śródlądowych cieplejszych stref klimatycznych. Bardzo zwinne i szybkie w locie. Żywią się małymi </a:t>
            </a:r>
            <a:r>
              <a:rPr b="0" lang="pl-PL" sz="24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rybami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i bezkręgowcami wodnymi, czasami łowią w locie duże </a:t>
            </a:r>
            <a:r>
              <a:rPr b="0" lang="pl-PL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owady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 Gnieżdżą się kolonijnie na położonych w głębi lądu terenach podmokłych, brzegach jezior i rzek. W zniesieniu 1-3 jaja, które są wysiadywane przez oboje rodziców przez 13-30 dni. Pisklęta opuszczają gniazdo wkrótce po wylęgu, ale pozostają jeszcze kilka tygodni pod opieką rodziców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05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0:28:33Z</dcterms:created>
  <dc:creator>administrator</dc:creator>
  <dc:description/>
  <dc:language>en-US</dc:language>
  <cp:lastModifiedBy>administrator</cp:lastModifiedBy>
  <dcterms:modified xsi:type="dcterms:W3CDTF">2002-12-06T10:48:19Z</dcterms:modified>
  <cp:revision>5</cp:revision>
  <dc:subject/>
  <dc:title>ARKTYKA I ANTARKTYDA  </dc:title>
</cp:coreProperties>
</file>